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1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AB2-F57D-4B66-A1A2-A8F5A566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010-6225-4AA3-BD0F-1071DBD5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7C6-C7D8-4132-88C7-FF3E0DB2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F6D-9CD3-45C8-880C-92E5A624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37AE-42FB-4DF2-A77A-2ACC40DB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DD5F-5C1B-42B1-8040-A8080EAE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8C4D-4BC9-4EFE-B9FA-FA9CB148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5AD8-FF5A-4F48-925B-B94A5E91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B685-3830-4E25-92AF-6E80F35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0C39-9CA6-4F1F-810C-125E1E4A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3B88-6A6B-473A-9C9D-8DF209EB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32D-F4B9-49D8-8AD8-4AD31B74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ACE7-50F9-4AF0-9FA7-B79DEFED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7F71-27F4-4D7B-AD97-A7EFA0D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01CB-649D-4760-BF3E-2D5CC8AD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4256-D558-4B10-B697-C9F21171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2555-3558-4A72-B1F7-B35CE1FB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B26-BE4D-4E4A-94E1-C23AA503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669-D5D6-476F-8761-88202DD5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2CE-844E-4188-9A18-38CA2492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8BF-7100-4592-ABBF-697634E3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56C-C9EB-4112-AFAE-65E6E707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DC1-AB84-4A6A-BC62-B4659B7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EC8-A569-493B-ADA5-B671C45D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56D2-8D1B-4706-89B9-D5E81F0CD2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9D9A-9DFA-42BE-AA5E-84C5E24EB42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PUXIN Biogas Plant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 6 and 10 m3 family-si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280" y="333360"/>
            <a:ext cx="78627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gester is 2.4m deep, 2.8m in diameter and 6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pacity. The gas-holder is 1.6 m in diameter, 0.6 m high and  1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pa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Drawing1-6m3"/>
          <p:cNvPicPr/>
          <p:nvPr/>
        </p:nvPicPr>
        <p:blipFill>
          <a:blip r:embed="rId1"/>
          <a:stretch/>
        </p:blipFill>
        <p:spPr>
          <a:xfrm>
            <a:off x="1258920" y="1484280"/>
            <a:ext cx="7058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B. Main advantag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ing with the fixed dome biogas plant, the PUXIN biogas plant has the following distinct 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and quick to be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gas production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maint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1. Easy and quick to be buil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working mason through one day’s study is able to build the PUXIN Biogas Plant with 100% success r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struction of a PUXIN Biogas Plant can be completed within 48 hou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The process to build PUXIN biogas plant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02"/>
          <p:cNvPicPr/>
          <p:nvPr/>
        </p:nvPicPr>
        <p:blipFill>
          <a:blip r:embed="rId1"/>
          <a:stretch/>
        </p:blipFill>
        <p:spPr>
          <a:xfrm>
            <a:off x="1476360" y="126828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04"/>
          <p:cNvPicPr/>
          <p:nvPr/>
        </p:nvPicPr>
        <p:blipFill>
          <a:blip r:embed="rId2"/>
          <a:stretch/>
        </p:blipFill>
        <p:spPr>
          <a:xfrm>
            <a:off x="5219640" y="126828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12"/>
          <p:cNvPicPr/>
          <p:nvPr/>
        </p:nvPicPr>
        <p:blipFill>
          <a:blip r:embed="rId3"/>
          <a:stretch/>
        </p:blipFill>
        <p:spPr>
          <a:xfrm>
            <a:off x="1476360" y="393372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17"/>
          <p:cNvPicPr/>
          <p:nvPr/>
        </p:nvPicPr>
        <p:blipFill>
          <a:blip r:embed="rId4"/>
          <a:stretch/>
        </p:blipFill>
        <p:spPr>
          <a:xfrm>
            <a:off x="5292720" y="4005360"/>
            <a:ext cx="2720880" cy="2017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"/>
          <p:cNvSpPr/>
          <p:nvPr/>
        </p:nvSpPr>
        <p:spPr>
          <a:xfrm>
            <a:off x="1549800" y="349956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Dig a hole in the gr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5005440" y="3378240"/>
            <a:ext cx="2887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Cast the basement a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emble the stomach mou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1476360" y="616500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Assemble the vault mou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5222880" y="61650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Cast the digester stoma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10" descr="28"/>
          <p:cNvPicPr/>
          <p:nvPr/>
        </p:nvPicPr>
        <p:blipFill>
          <a:blip r:embed="rId1"/>
          <a:stretch/>
        </p:blipFill>
        <p:spPr>
          <a:xfrm>
            <a:off x="1403280" y="378936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29"/>
          <p:cNvPicPr/>
          <p:nvPr/>
        </p:nvPicPr>
        <p:blipFill>
          <a:blip r:embed="rId2"/>
          <a:stretch/>
        </p:blipFill>
        <p:spPr>
          <a:xfrm>
            <a:off x="5364000" y="3789360"/>
            <a:ext cx="2721240" cy="201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6"/>
          <p:cNvSpPr/>
          <p:nvPr/>
        </p:nvSpPr>
        <p:spPr>
          <a:xfrm>
            <a:off x="1332000" y="3212280"/>
            <a:ext cx="34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Assemble the neck moul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5366880" y="328392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Cast the digester nec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1259640" y="594936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disassemble the neck moul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5220360" y="5819760"/>
            <a:ext cx="2425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disassemble the vaul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stomach moul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1" descr="CONSTRUCTION MANUAL070326_页面_30"/>
          <p:cNvPicPr/>
          <p:nvPr/>
        </p:nvPicPr>
        <p:blipFill>
          <a:blip r:embed="rId3"/>
          <a:stretch/>
        </p:blipFill>
        <p:spPr>
          <a:xfrm>
            <a:off x="1403280" y="1125360"/>
            <a:ext cx="2697120" cy="2019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CONSTRUCTION MANUAL070326_页面_34"/>
          <p:cNvPicPr/>
          <p:nvPr/>
        </p:nvPicPr>
        <p:blipFill>
          <a:blip r:embed="rId4"/>
          <a:stretch/>
        </p:blipFill>
        <p:spPr>
          <a:xfrm>
            <a:off x="5364000" y="1125360"/>
            <a:ext cx="2697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CIMG2491"/>
          <p:cNvPicPr/>
          <p:nvPr/>
        </p:nvPicPr>
        <p:blipFill>
          <a:blip r:embed="rId1"/>
          <a:stretch/>
        </p:blipFill>
        <p:spPr>
          <a:xfrm>
            <a:off x="1116000" y="260280"/>
            <a:ext cx="2922480" cy="219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IMG2493"/>
          <p:cNvPicPr/>
          <p:nvPr/>
        </p:nvPicPr>
        <p:blipFill>
          <a:blip r:embed="rId2"/>
          <a:stretch/>
        </p:blipFill>
        <p:spPr>
          <a:xfrm>
            <a:off x="5148360" y="260280"/>
            <a:ext cx="2911320" cy="2183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1116720" y="26370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Build the inlet and outl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076720" y="256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Install the gas hold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2125080" y="6332400"/>
            <a:ext cx="46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Install the gas pipe system and the applian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3" descr="户用型 拷贝"/>
          <p:cNvPicPr/>
          <p:nvPr/>
        </p:nvPicPr>
        <p:blipFill>
          <a:blip r:embed="rId3"/>
          <a:stretch/>
        </p:blipFill>
        <p:spPr>
          <a:xfrm>
            <a:off x="1979640" y="2997360"/>
            <a:ext cx="61214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099080" y="41472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st of the technical requirements for the bui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58920" y="1125360"/>
          <a:ext cx="7021440" cy="5181840"/>
        </p:xfrm>
        <a:graphic>
          <a:graphicData uri="http://schemas.openxmlformats.org/drawingml/2006/table">
            <a:tbl>
              <a:tblPr/>
              <a:tblGrid>
                <a:gridCol w="1725480"/>
                <a:gridCol w="3267000"/>
                <a:gridCol w="20289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 biogas pl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irtight craf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ility to understand bluepri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ild by hand depending on the  blueprints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 (cast by moul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ility to build the arc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 (build by han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 (cast by moul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judge and deal with gas lea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judge and deal with water lea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quire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ining peri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out 3 mon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5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 to become a proficient buil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y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out one mon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quirement of the people to be train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um educated, strong ability to master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Educated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，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um ability to master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ccess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100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uarant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uarant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96"/>
          <p:cNvSpPr/>
          <p:nvPr/>
        </p:nvSpPr>
        <p:spPr>
          <a:xfrm>
            <a:off x="0" y="524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934640" y="7866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st of the construction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79640" y="2060640"/>
          <a:ext cx="6048360" cy="3200400"/>
        </p:xfrm>
        <a:graphic>
          <a:graphicData uri="http://schemas.openxmlformats.org/drawingml/2006/table">
            <a:tbl>
              <a:tblPr/>
              <a:tblGrid>
                <a:gridCol w="2087640"/>
                <a:gridCol w="1728720"/>
                <a:gridCol w="2232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biogas pl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struction of the concrete digest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irtight working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days ( not requir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airtight t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rking procedu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days (notrequir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01"/>
          <p:cNvSpPr/>
          <p:nvPr/>
        </p:nvSpPr>
        <p:spPr>
          <a:xfrm>
            <a:off x="0" y="44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. High gas production rat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been proved that the gas production rate of PUXIN biogas plant is over 50% higher than that of 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traditional fixed dome biogas plant in average under the same condi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IMOR LESTE a 10m3 PUXIN biogas plant with three 1.2m3 gasholders can produce enough gas for three famil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The president of TIMOR LESTE is visiting a PUXIN biogas plant built in TIMOR LEST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Budhy Pict Guico (117)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(1) Introduction of PUXIN Biogas Plant technology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novate the traditional fixed dome  biogas plant, Shenzhen Puxin Science&amp; Technology Co., Ltd, through many year’s study developed a new generational hydraulic biogas Plant-the PUXIN Biogas Plant that has carried on almost all the advantages of the traditional fixed dome biogas plant, and overcome its main disadvan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2012, PUXIN biogas plant has been extended to over 50 cou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3. Easy to maintain</a:t>
            </a:r>
            <a:br>
              <a:rPr sz="4000"/>
            </a:b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The leak of the gas-holder can be found immediately, and can be repaired on ground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Picture 4" descr="tu_00029"/>
          <p:cNvPicPr/>
          <p:nvPr/>
        </p:nvPicPr>
        <p:blipFill>
          <a:blip r:embed="rId1"/>
          <a:stretch/>
        </p:blipFill>
        <p:spPr>
          <a:xfrm>
            <a:off x="838080" y="2448000"/>
            <a:ext cx="3926160" cy="31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tu_00030"/>
          <p:cNvPicPr/>
          <p:nvPr/>
        </p:nvPicPr>
        <p:blipFill>
          <a:blip r:embed="rId2"/>
          <a:stretch/>
        </p:blipFill>
        <p:spPr>
          <a:xfrm>
            <a:off x="4919760" y="2448000"/>
            <a:ext cx="39258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181880" y="763920"/>
            <a:ext cx="661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rast of the maintenanc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1697040"/>
          <a:ext cx="7632720" cy="4175280"/>
        </p:xfrm>
        <a:graphic>
          <a:graphicData uri="http://schemas.openxmlformats.org/drawingml/2006/table">
            <a:tbl>
              <a:tblPr/>
              <a:tblGrid>
                <a:gridCol w="2308320"/>
                <a:gridCol w="2228760"/>
                <a:gridCol w="3095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 biogas pl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mend the gas leak of gas-holder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ngerous and difficu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job is done inside the biogas digester, there is a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leak can not be found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fe and eas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job is done on ground, there is no possibility of poisoning. The leak can  be seen, and can be mended  directly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mend the water leak of the digeste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ngero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digester’ outlet is too small that the air circulation in the digester  is bad. So, there is a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digester’s outlet is large enough that the air circulation in the digester is good. So, there is no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4. Durabl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crete digester can last over thirty years. The glass fibre reinforced plastic gas-holder can last over ten years. When the gas-holder is worn-out, a new one can replace. So the PUXIN biogas plant can last over thirty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(2) Cost analyze of a 6m3 PUXIN biogas plant</a:t>
            </a:r>
            <a:br>
              <a:rPr sz="2400"/>
            </a:br>
            <a:r>
              <a:rPr b="0" lang="en-US" sz="1400" spc="-1" strike="noStrike">
                <a:solidFill>
                  <a:srgbClr val="ffffb7"/>
                </a:solidFill>
                <a:latin typeface="Arial Black"/>
              </a:rPr>
              <a:t>(the earth work is not included)</a:t>
            </a:r>
            <a:br>
              <a:rPr sz="18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124000" y="1413000"/>
          <a:ext cx="5400720" cy="4754520"/>
        </p:xfrm>
        <a:graphic>
          <a:graphicData uri="http://schemas.openxmlformats.org/drawingml/2006/table">
            <a:tbl>
              <a:tblPr/>
              <a:tblGrid>
                <a:gridCol w="1670040"/>
                <a:gridCol w="1930320"/>
                <a:gridCol w="935280"/>
                <a:gridCol w="865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(manpowe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t pr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USD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c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SD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lass fibre reinforced plastic Gashol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mashed st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4 m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0 m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0 k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ick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×120×240mm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stic pipe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Φ150×1800m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rete bar (Φ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k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po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man day in tot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man×1 day (install the mould and cast)+2 man×1 day 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ssemble the mould,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build inlet, outlet and install pipe and applianc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pr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264"/>
          <p:cNvSpPr/>
          <p:nvPr/>
        </p:nvSpPr>
        <p:spPr>
          <a:xfrm>
            <a:off x="0" y="627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Products related to PUXIN family size biogas system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el m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s fibre reinforced plastic gas-hol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appli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1. Steel mou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10m3 steel mould  can build 4, 6 and 10m3 PUXIN family size biogas plant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002钢模+外模"/>
          <p:cNvPicPr/>
          <p:nvPr/>
        </p:nvPicPr>
        <p:blipFill>
          <a:blip r:embed="rId1"/>
          <a:stretch/>
        </p:blipFill>
        <p:spPr>
          <a:xfrm>
            <a:off x="1835280" y="191628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2. The gas-holder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duct is one of the main components of PUXIN Biogas Pla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top of the gas –holder there is a valve that can eliminate the atmospheric press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re is a need to replace solid fermentation material like straw in the digester or to repair the digester, the gas-holder can be taken out from the digester easi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Gas-hold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8" name="Picture 3" descr="照片 014"/>
          <p:cNvPicPr/>
          <p:nvPr/>
        </p:nvPicPr>
        <p:blipFill>
          <a:blip r:embed="rId1"/>
          <a:stretch/>
        </p:blipFill>
        <p:spPr>
          <a:xfrm>
            <a:off x="5364000" y="4149720"/>
            <a:ext cx="3029040" cy="2019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题-1 拷贝"/>
          <p:cNvPicPr/>
          <p:nvPr/>
        </p:nvPicPr>
        <p:blipFill>
          <a:blip r:embed="rId2"/>
          <a:stretch/>
        </p:blipFill>
        <p:spPr>
          <a:xfrm>
            <a:off x="3203640" y="2781360"/>
            <a:ext cx="2952720" cy="1968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储气罩GASHOLDER"/>
          <p:cNvPicPr/>
          <p:nvPr/>
        </p:nvPicPr>
        <p:blipFill>
          <a:blip r:embed="rId3"/>
          <a:stretch/>
        </p:blipFill>
        <p:spPr>
          <a:xfrm>
            <a:off x="468360" y="1413000"/>
            <a:ext cx="3166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3. Biogas appliance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sto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water he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rice cook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la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pipe &amp; fi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gene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stove (double burners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4" name="Picture 3" descr="图片1"/>
          <p:cNvPicPr/>
          <p:nvPr/>
        </p:nvPicPr>
        <p:blipFill>
          <a:blip r:embed="rId1"/>
          <a:stretch/>
        </p:blipFill>
        <p:spPr>
          <a:xfrm>
            <a:off x="826920" y="2205000"/>
            <a:ext cx="77457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6m3 PUXIN biogas system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图片 5" descr="6立方系统(定).jpg"/>
          <p:cNvPicPr/>
          <p:nvPr/>
        </p:nvPicPr>
        <p:blipFill>
          <a:blip r:embed="rId1"/>
          <a:stretch/>
        </p:blipFill>
        <p:spPr>
          <a:xfrm>
            <a:off x="428760" y="1500120"/>
            <a:ext cx="850104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water heater (7L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6" name="Picture 3" descr="DSC00031"/>
          <p:cNvPicPr/>
          <p:nvPr/>
        </p:nvPicPr>
        <p:blipFill>
          <a:blip r:embed="rId1"/>
          <a:stretch/>
        </p:blipFill>
        <p:spPr>
          <a:xfrm>
            <a:off x="2627280" y="1197000"/>
            <a:ext cx="38242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rice cooker (2L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8" name="Picture 3" descr="2008221104316101[1]"/>
          <p:cNvPicPr/>
          <p:nvPr/>
        </p:nvPicPr>
        <p:blipFill>
          <a:blip r:embed="rId1"/>
          <a:stretch/>
        </p:blipFill>
        <p:spPr>
          <a:xfrm>
            <a:off x="2124000" y="1773360"/>
            <a:ext cx="518472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lamp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0" name="Picture 3" descr="DSC00020"/>
          <p:cNvPicPr/>
          <p:nvPr/>
        </p:nvPicPr>
        <p:blipFill>
          <a:blip r:embed="rId1"/>
          <a:stretch/>
        </p:blipFill>
        <p:spPr>
          <a:xfrm>
            <a:off x="2016000" y="1905120"/>
            <a:ext cx="5651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pipe &amp; fitting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ressure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desulfuriz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ipe fi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i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flow 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http://topsaving.com/en/images/b/053.jpg"/>
          <p:cNvPicPr/>
          <p:nvPr/>
        </p:nvPicPr>
        <p:blipFill>
          <a:blip r:embed="rId1"/>
          <a:stretch/>
        </p:blipFill>
        <p:spPr>
          <a:xfrm>
            <a:off x="5940360" y="2349360"/>
            <a:ext cx="1413000" cy="1125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http://topsaving.com/en/images/b/biogas_fittings.jpg"/>
          <p:cNvPicPr/>
          <p:nvPr/>
        </p:nvPicPr>
        <p:blipFill>
          <a:blip r:embed="rId2"/>
          <a:stretch/>
        </p:blipFill>
        <p:spPr>
          <a:xfrm>
            <a:off x="4859280" y="371628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http://topsaving.com/en/images/b/biogas%20pipe.jpg"/>
          <p:cNvPicPr/>
          <p:nvPr/>
        </p:nvPicPr>
        <p:blipFill>
          <a:blip r:embed="rId3"/>
          <a:stretch/>
        </p:blipFill>
        <p:spPr>
          <a:xfrm>
            <a:off x="6372360" y="371628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表面 拷贝"/>
          <p:cNvPicPr/>
          <p:nvPr/>
        </p:nvPicPr>
        <p:blipFill>
          <a:blip r:embed="rId4"/>
          <a:stretch/>
        </p:blipFill>
        <p:spPr>
          <a:xfrm>
            <a:off x="4932360" y="1844640"/>
            <a:ext cx="985680" cy="1693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2007317193713850"/>
          <p:cNvPicPr/>
          <p:nvPr/>
        </p:nvPicPr>
        <p:blipFill>
          <a:blip r:embed="rId5"/>
          <a:stretch/>
        </p:blipFill>
        <p:spPr>
          <a:xfrm>
            <a:off x="4859280" y="5084640"/>
            <a:ext cx="1476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Biogas generator (1-5kw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products-1200-01"/>
          <p:cNvPicPr/>
          <p:nvPr/>
        </p:nvPicPr>
        <p:blipFill>
          <a:blip r:embed="rId1"/>
          <a:stretch/>
        </p:blipFill>
        <p:spPr>
          <a:xfrm>
            <a:off x="2050920" y="1916280"/>
            <a:ext cx="46818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(4) Referenc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73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1.  East Timor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East  Timor   the biogas system composed of 10m3 Puxin family size biogas plant  and  two extra gasholders  is a very popular biogas system that provide enough biogas for three families for their daily cooking and water boil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r. Aries Eddie de Almei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670-724274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almukelect@gmail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图片 5" descr="IMG_0439--"/>
          <p:cNvPicPr/>
          <p:nvPr/>
        </p:nvPicPr>
        <p:blipFill>
          <a:blip r:embed="rId1"/>
          <a:stretch/>
        </p:blipFill>
        <p:spPr>
          <a:xfrm>
            <a:off x="928800" y="2286000"/>
            <a:ext cx="2606400" cy="15955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6" descr="图形3"/>
          <p:cNvPicPr/>
          <p:nvPr/>
        </p:nvPicPr>
        <p:blipFill>
          <a:blip r:embed="rId2"/>
          <a:stretch/>
        </p:blipFill>
        <p:spPr>
          <a:xfrm>
            <a:off x="3714840" y="2286000"/>
            <a:ext cx="26715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. Gha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ny biogas systems composed of numbers of 10m3 PUXIN biogas plant are built for schools and  hotels to treat the sewage water and food wast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ETA CONSTRUCTION ENGINEERS LIM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. O. BOX K.I.A. 9329 ACCRA- GH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 person: Mr. Kofi Ahenkor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hone: 233-21-404186, 233-24-6865689/423953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X: 233-21-40418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-MAIL: betaconst@yahoo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图片 3" descr="C:\Documents and Settings\Administrator\Application Data\Tencent\Users\253850679\QQ\WinTemp\RichOle\PUU~_ASE})N6[KA}5LJIU}W.jpg"/>
          <p:cNvPicPr/>
          <p:nvPr/>
        </p:nvPicPr>
        <p:blipFill>
          <a:blip r:embed="rId1"/>
          <a:stretch/>
        </p:blipFill>
        <p:spPr>
          <a:xfrm>
            <a:off x="3179880" y="2571840"/>
            <a:ext cx="2784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244440"/>
            <a:ext cx="841356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.Nicaragu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7720" y="1428840"/>
            <a:ext cx="78771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xin biogas system built in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Polytechnic University of Nicaragu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to treat the food waste, the biogas for cook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50M3 Puxin biogas systems built in Juigalpa Nicaragua to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reat the slaughterhouse waste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The biogas used in a water heater using in slaughter pigs process, the Project support by UNIDO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t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ytechnic University of Nicaragu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 person: Dr. Roberto A. Gonzál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hone: 2249-4529, Fax 2249-92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.gonzalez@upoli.edu.n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_glezc@yahoo.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glezc@tmail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图片 3" descr="C:\Documents and Settings\Administrator\Application Data\Tencent\Users\253850679\QQ\WinTemp\RichOle\J$I$3WXQCMR3V(YJ63O2VDB.jpg"/>
          <p:cNvPicPr/>
          <p:nvPr/>
        </p:nvPicPr>
        <p:blipFill>
          <a:blip r:embed="rId1"/>
          <a:stretch/>
        </p:blipFill>
        <p:spPr>
          <a:xfrm>
            <a:off x="1143000" y="1357200"/>
            <a:ext cx="2914560" cy="15004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C:\Documents and Settings\Administrator\Application Data\Tencent\Users\253850679\QQ\WinTemp\RichOle\N9[MY`PHX[MC%N5SEL2}W$T.jpg"/>
          <p:cNvPicPr/>
          <p:nvPr/>
        </p:nvPicPr>
        <p:blipFill>
          <a:blip r:embed="rId2"/>
          <a:stretch/>
        </p:blipFill>
        <p:spPr>
          <a:xfrm>
            <a:off x="4214880" y="1428840"/>
            <a:ext cx="2457360" cy="14954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" descr="C:\Documents and Settings\Administrator\Application Data\Tencent\Users\253850679\QQ\WinTemp\RichOle\@}]ASXCCY2`UI1STD_2ZV6K.jpg"/>
          <p:cNvPicPr/>
          <p:nvPr/>
        </p:nvPicPr>
        <p:blipFill>
          <a:blip r:embed="rId3"/>
          <a:stretch/>
        </p:blipFill>
        <p:spPr>
          <a:xfrm>
            <a:off x="1285920" y="3429000"/>
            <a:ext cx="2835360" cy="15559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6" descr="C:\Documents and Settings\Administrator\Application Data\Tencent\Users\253850679\QQ\WinTemp\RichOle\I276[{R~YEQ$W[UHL{2BHKC.jpg"/>
          <p:cNvPicPr/>
          <p:nvPr/>
        </p:nvPicPr>
        <p:blipFill>
          <a:blip r:embed="rId4"/>
          <a:stretch/>
        </p:blipFill>
        <p:spPr>
          <a:xfrm>
            <a:off x="4214880" y="3429000"/>
            <a:ext cx="24130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Keny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xin biogas system built in Ken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ya Puxin Renewable Energy Co. Lt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irobi office: Veteran hse, 8th floor, suite 807. Along moi aven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anch office: Jopa hse, suite 2. P.O BOX 1051, 20300. Nyahurur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M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tha kagi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254727980192, Mobile: +25470363297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arthapleijel@yahoo.s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arthapuxin@gmail.co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enyapuxin07@yahoo.co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puxinbiogaskenya.kbo.co.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图片 3" descr="F:\PHOTO\国外\肯尼亚\肯尼亚\Puxin biogas in Kenya-02.jpg"/>
          <p:cNvPicPr/>
          <p:nvPr/>
        </p:nvPicPr>
        <p:blipFill>
          <a:blip r:embed="rId1"/>
          <a:stretch/>
        </p:blipFill>
        <p:spPr>
          <a:xfrm>
            <a:off x="2214720" y="1785960"/>
            <a:ext cx="2390760" cy="179244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4" descr="F:\PHOTO\国外\肯尼亚\肯尼亚\图形1.jpg"/>
          <p:cNvPicPr/>
          <p:nvPr/>
        </p:nvPicPr>
        <p:blipFill>
          <a:blip r:embed="rId2"/>
          <a:stretch/>
        </p:blipFill>
        <p:spPr>
          <a:xfrm>
            <a:off x="4786200" y="1857240"/>
            <a:ext cx="27813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10m3 PUXIN biogas system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内容占位符 3" descr="10立方系统(定).jpg"/>
          <p:cNvPicPr/>
          <p:nvPr/>
        </p:nvPicPr>
        <p:blipFill>
          <a:blip r:embed="rId1"/>
          <a:stretch/>
        </p:blipFill>
        <p:spPr>
          <a:xfrm>
            <a:off x="500040" y="2071800"/>
            <a:ext cx="82915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.South Afr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uxin biogas system built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 South Af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ogas 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 Box 864 Muldersdrift Johannesburg 1747 South Af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tact person: Mark Tiepe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one: +27 72 445 47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biogassa.co.z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图片 3" descr="C:\Documents and Settings\Administrator\Application Data\Tencent\Users\253850679\QQ\WinTemp\RichOle\0CYU$~ZHTS37PVSRX9BL{C3.jpg"/>
          <p:cNvPicPr/>
          <p:nvPr/>
        </p:nvPicPr>
        <p:blipFill>
          <a:blip r:embed="rId1"/>
          <a:stretch/>
        </p:blipFill>
        <p:spPr>
          <a:xfrm>
            <a:off x="1214280" y="2286000"/>
            <a:ext cx="2390760" cy="17445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" descr="C:\Documents and Settings\Administrator\Application Data\Tencent\Users\253850679\QQ\WinTemp\RichOle\@O)_5TLU52NT9C18[8TCYOI.jpg"/>
          <p:cNvPicPr/>
          <p:nvPr/>
        </p:nvPicPr>
        <p:blipFill>
          <a:blip r:embed="rId2"/>
          <a:stretch/>
        </p:blipFill>
        <p:spPr>
          <a:xfrm>
            <a:off x="3714840" y="2286000"/>
            <a:ext cx="2387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. Isra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xin biogas system built in Isra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ogas Isra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rech hayam 10, Michmoret, Israel, 402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Oshik Efrat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972-(0)52-3221554 Fax: +972-(0)57-95575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oshik@ecogas.co.i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ecogas.co.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图片 3" descr="C:\Documents and Settings\Administrator\Application Data\Tencent\Users\253850679\QQ\WinTemp\RichOle\NX1}SVSXIAPP46BV(D_1G5P.jpg"/>
          <p:cNvPicPr/>
          <p:nvPr/>
        </p:nvPicPr>
        <p:blipFill>
          <a:blip r:embed="rId1"/>
          <a:stretch/>
        </p:blipFill>
        <p:spPr>
          <a:xfrm>
            <a:off x="1000080" y="2000160"/>
            <a:ext cx="2733840" cy="16336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" descr="C:\Documents and Settings\Administrator\Application Data\Tencent\Users\253850679\QQ\WinTemp\RichOle\5TJYG@ZI)3A6ZJAYWY{PU3A.jpg"/>
          <p:cNvPicPr/>
          <p:nvPr/>
        </p:nvPicPr>
        <p:blipFill>
          <a:blip r:embed="rId2"/>
          <a:stretch/>
        </p:blipFill>
        <p:spPr>
          <a:xfrm>
            <a:off x="3929040" y="2000160"/>
            <a:ext cx="26478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7. Seneg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xin biogas system built in Seneg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OE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. Louis 221, Seneg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Christophe Chesnea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221-7733812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c_chesneau@yahoo.f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图片 3" descr="C:\Documents and Settings\Administrator\Application Data\Tencent\Users\253850679\QQ\WinTemp\RichOle\$]4ZH(0SW2PXL(JM(H(2@YA.jpg"/>
          <p:cNvPicPr/>
          <p:nvPr/>
        </p:nvPicPr>
        <p:blipFill>
          <a:blip r:embed="rId1"/>
          <a:stretch/>
        </p:blipFill>
        <p:spPr>
          <a:xfrm>
            <a:off x="1143000" y="2071800"/>
            <a:ext cx="2023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8.WF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  sets of PUXIN family size (10m3) biogas plants  were purchased by WFP for Sudan  in 2011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ac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med Adlan, Procurement Unit, WFP Khartoum, Su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amed.Adlan@wfp.o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 tele: +249912153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as Dabbagh, Procurement Officer, WFP-Sudan RO, VSAT: 22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Firas.Dabbagh@wfp.o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, tele: +249 9121 773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mit Kumar Singh , Programme Officer , United Nations World Food Program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rth Darfur Area Office,  North Darfur,Sudan , Mobile- 00249 91231784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mit.Singh@wfp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. UNID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family size biogas system formed by 2 sets of 10m3 biogas plant and 2 extra gas holders were purchased by UNIDO for Armenia in 20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act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. Victor Afyan, Apt.16,Charents, Block,15, Avan, Yerevan, 0060, Arme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vafyan@contact-a.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l: (374)-98-411-4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. Gillian OCAMPO-GOETZLINGER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G.Ocampo-Goetzlinger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'DRAECK, Mark'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M.Draeck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LOV, Alexander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A.Orlov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ONYAN, Anahi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A.Simonyan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ntact us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have the interest please contac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nzhen Puxin Technology Co.Lt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: 2nd floor, Bldg 4, 49 Jiaoyu North Rd, Gaoqiao District, Pingdi Street, Longgang, Shenzhen, P. R. Ch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al Code: 5181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: 86-755-28938251  86-755-28938252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x: 86-755-8932398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: JW@puxintech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site: www.puxintech.com 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Thanks!</a:t>
            </a:r>
            <a:br>
              <a:rPr sz="4800"/>
            </a:b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built in Keny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2008322114344769"/>
          <p:cNvPicPr/>
          <p:nvPr/>
        </p:nvPicPr>
        <p:blipFill>
          <a:blip r:embed="rId1"/>
          <a:stretch/>
        </p:blipFill>
        <p:spPr>
          <a:xfrm>
            <a:off x="1116000" y="4724280"/>
            <a:ext cx="2286000" cy="1685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008322114329324"/>
          <p:cNvPicPr/>
          <p:nvPr/>
        </p:nvPicPr>
        <p:blipFill>
          <a:blip r:embed="rId2"/>
          <a:stretch/>
        </p:blipFill>
        <p:spPr>
          <a:xfrm>
            <a:off x="1116000" y="1268280"/>
            <a:ext cx="2543040" cy="3368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2008322114338984"/>
          <p:cNvPicPr/>
          <p:nvPr/>
        </p:nvPicPr>
        <p:blipFill>
          <a:blip r:embed="rId3"/>
          <a:stretch/>
        </p:blipFill>
        <p:spPr>
          <a:xfrm>
            <a:off x="6012000" y="1341360"/>
            <a:ext cx="2286000" cy="170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iogas Puxin village project SS"/>
          <p:cNvPicPr/>
          <p:nvPr/>
        </p:nvPicPr>
        <p:blipFill>
          <a:blip r:embed="rId4"/>
          <a:stretch/>
        </p:blipFill>
        <p:spPr>
          <a:xfrm>
            <a:off x="4067280" y="335772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3851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built in Ghan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200832211438838"/>
          <p:cNvPicPr/>
          <p:nvPr/>
        </p:nvPicPr>
        <p:blipFill>
          <a:blip r:embed="rId1"/>
          <a:stretch/>
        </p:blipFill>
        <p:spPr>
          <a:xfrm>
            <a:off x="826920" y="1341360"/>
            <a:ext cx="238140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008322114629550"/>
          <p:cNvPicPr/>
          <p:nvPr/>
        </p:nvPicPr>
        <p:blipFill>
          <a:blip r:embed="rId2"/>
          <a:stretch/>
        </p:blipFill>
        <p:spPr>
          <a:xfrm>
            <a:off x="3851280" y="1268280"/>
            <a:ext cx="1469880" cy="165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2008322114718395"/>
          <p:cNvPicPr/>
          <p:nvPr/>
        </p:nvPicPr>
        <p:blipFill>
          <a:blip r:embed="rId3"/>
          <a:stretch/>
        </p:blipFill>
        <p:spPr>
          <a:xfrm>
            <a:off x="5724360" y="1268280"/>
            <a:ext cx="2163960" cy="15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50+M3+PUXIN+BIOGAS+PLANT+WITH+GAS+AND+WATER+PURIFICATION+DEVICES+FOR+COLLEGE+HOSTEL+IN+TEMA"/>
          <p:cNvPicPr/>
          <p:nvPr/>
        </p:nvPicPr>
        <p:blipFill>
          <a:blip r:embed="rId4"/>
          <a:stretch/>
        </p:blipFill>
        <p:spPr>
          <a:xfrm>
            <a:off x="4427640" y="3213000"/>
            <a:ext cx="3529080" cy="2657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5"/>
          <p:cNvPicPr/>
          <p:nvPr/>
        </p:nvPicPr>
        <p:blipFill>
          <a:blip r:embed="rId5"/>
          <a:stretch/>
        </p:blipFill>
        <p:spPr>
          <a:xfrm>
            <a:off x="755640" y="3068640"/>
            <a:ext cx="35226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51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Family size PUXIN biogas plants in construction Spain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DAVE &amp; JOSEPH"/>
          <p:cNvPicPr/>
          <p:nvPr/>
        </p:nvPicPr>
        <p:blipFill>
          <a:blip r:embed="rId1"/>
          <a:stretch/>
        </p:blipFill>
        <p:spPr>
          <a:xfrm>
            <a:off x="826920" y="184464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LENADO"/>
          <p:cNvPicPr/>
          <p:nvPr/>
        </p:nvPicPr>
        <p:blipFill>
          <a:blip r:embed="rId2"/>
          <a:stretch/>
        </p:blipFill>
        <p:spPr>
          <a:xfrm>
            <a:off x="4427640" y="1916280"/>
            <a:ext cx="33955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in construction in South Afric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BiogaSA 088"/>
          <p:cNvPicPr/>
          <p:nvPr/>
        </p:nvPicPr>
        <p:blipFill>
          <a:blip r:embed="rId1"/>
          <a:stretch/>
        </p:blipFill>
        <p:spPr>
          <a:xfrm>
            <a:off x="971640" y="1989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iogaSA 122"/>
          <p:cNvPicPr/>
          <p:nvPr/>
        </p:nvPicPr>
        <p:blipFill>
          <a:blip r:embed="rId2"/>
          <a:stretch/>
        </p:blipFill>
        <p:spPr>
          <a:xfrm>
            <a:off x="4788000" y="3213000"/>
            <a:ext cx="36734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A.</a:t>
            </a:r>
            <a:r>
              <a:rPr b="0" lang="zh-CN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he structure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8150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XIN Biogas Plant is mainly composed of a concrete digester and a glass fibre reinforced plastic gas-hold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6CBM5 拷贝"/>
          <p:cNvPicPr/>
          <p:nvPr/>
        </p:nvPicPr>
        <p:blipFill>
          <a:blip r:embed="rId1"/>
          <a:stretch/>
        </p:blipFill>
        <p:spPr>
          <a:xfrm>
            <a:off x="2411280" y="2060640"/>
            <a:ext cx="4084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3-07-29T06:46:45Z</dcterms:modified>
  <cp:revision>240</cp:revision>
  <dc:subject/>
  <dc:title>PowerPoint Presentation</dc:title>
</cp:coreProperties>
</file>